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994-1AEA-420A-92A7-01CBE45A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4FC8-2B28-4AE3-94C4-47D170C8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959A-4D41-4CF5-AB03-CCA6F7E8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1180-2C03-48CE-8ED5-E6C7A3BC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797-BEF9-4A72-8722-E75034DC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04A7-AF45-4288-8DF1-A6E86262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E921-5A95-4391-9976-8DCD5414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651-4D2F-464F-99BC-22F211FD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6854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208B-F0DB-446E-BCED-DE0F4C14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88D-EF9F-4AB8-AE45-C0AE04F6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8579-55C3-407E-B7DF-E744FD83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6DC-90DD-4271-8A80-B0A77AD0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66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5C96-AECA-47E9-8D93-BF7AB5BD1D1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91F3-C188-45B2-8DE3-E1D6553B9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logo" descr=""/>
          <p:cNvPicPr/>
          <p:nvPr/>
        </p:nvPicPr>
        <p:blipFill>
          <a:blip r:embed="rId2"/>
          <a:stretch/>
        </p:blipFill>
        <p:spPr>
          <a:xfrm>
            <a:off x="7888320" y="685800"/>
            <a:ext cx="49356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72400" y="13716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Regler for tillatte meldesystemer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Kurs for turneringslede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rondheim 3-5 mai 2002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8D51-554C-4341-8DDB-BFD1BB9C14F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D2344-F1D4-4331-B457-A577D1CD7B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efinisjoner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Gjennomsnittshån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gjennomsnittshånd er en hånd som har en honnør av hver rang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vak hån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svak hånd mangler en konge eller mer på å være like sterk som en gjennomsnittshån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terk hån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sterk hånd er minst en konge bedre enn en gjennomsnittshån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Lang farge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farge er lang når den er på minst tre kor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Kort farge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farge er kort når den er på høyst to kor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EC3-643B-41BD-8560-5EB239E3B4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E2CED-7811-44DB-A9C8-6369D3C49B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efinisjoner I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onvensjonell melding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melding er konvensjonell når den i følge makkeravtale</a:t>
            </a:r>
            <a:br>
              <a:rPr sz="1800"/>
            </a:b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kan formidle en annen betydning enn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990000"/>
                </a:solidFill>
                <a:latin typeface="Times New Roman"/>
              </a:rPr>
              <a:t>En vilje til å spille i angitt benevnelse (eller den sist angitte benevnelse.)</a:t>
            </a:r>
            <a:endParaRPr b="0" lang="en-US" sz="1400" spc="-1" strike="noStrike">
              <a:solidFill>
                <a:srgbClr val="99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990000"/>
                </a:solidFill>
                <a:latin typeface="Times New Roman"/>
              </a:rPr>
              <a:t>Honnørstyrke i fargen.</a:t>
            </a:r>
            <a:endParaRPr b="0" lang="en-US" sz="1400" spc="-1" strike="noStrike">
              <a:solidFill>
                <a:srgbClr val="99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990000"/>
                </a:solidFill>
                <a:latin typeface="Times New Roman"/>
              </a:rPr>
              <a:t>Lang farge</a:t>
            </a:r>
            <a:endParaRPr b="0" lang="en-US" sz="1400" spc="-1" strike="noStrike">
              <a:solidFill>
                <a:srgbClr val="99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Ekte melding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melding er ekte når den ikke er konvensjonell </a:t>
            </a:r>
            <a:br>
              <a:rPr sz="1800"/>
            </a:b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(etter definisjonen ovenfor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Lang lagkamp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lagkamp er lang når den er på minst 17 spill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ort lagkamp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lagkamp er kort når den er på høyst 16 spill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Psykisk melding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melding er psykisk når den er overlagt og grovt villedende i forhold til systemdeklarasjone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Semibalansert hånd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 hånd er semibalansert når den inneholder to dobbeltoner eller en singelton uten dobbelt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E0EE-706C-4ABD-9234-02B2D97C0C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3E3A0-5551-45D4-8B0F-9F2ED23B17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UM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(Høyst uvanlig metode)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990000"/>
                </a:solidFill>
                <a:latin typeface="Times New Roman"/>
              </a:rPr>
              <a:t>Et system tilhører kategorien HUM når det oppfyller minst ett av fem kriterier: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66"/>
                </a:solidFill>
                <a:latin typeface="Times New Roman"/>
              </a:rPr>
              <a:t>Pass i åpning viser eller kan inneholde en sterk hånd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66"/>
                </a:solidFill>
                <a:latin typeface="Times New Roman"/>
              </a:rPr>
              <a:t>Et åpningsbud på entrinne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an være svakere enn pass i samme posisjon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an vise eller inneholde en svak hånd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an alternativt vise kort eller lang farge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 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an vise enten lengde i en farge eller i en eller flere andre farger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68EE-A5FF-44DC-9A9F-FE7747C94C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EA671-9689-4A2B-8F79-D00B31F48F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HUK  (Høyst uvanlig konvensjon ) I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HUK er konvensjon knyttet til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Åpningsbud fra og med 2 kløver til og med 3 spar, som kan vise eller inneholde hånd under gjennomsnitt og da ikke viser minst 4 kort i en bestemt farg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Unnta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) Meldingen viser alltid minst 4 kort i en kjent farge når det ikke er sterkt. Dersom meldingen ikke viser en kjent 4 kortsfarge, må den vise en hånd med en konge eller mer over gjennomsnitt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B) Åpning 2 i minor som viser minst 5 kort i en ukjent majorfarge, er ikke HUK</a:t>
            </a: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rsom alle ikke-sterke varianter av en slik melding har en felles kjent farge på minst fire kort, kan den altså i tillegg fritt ha hvilke som helst sterke betydning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51FA-E35C-42A3-8D67-6CA59C535E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E4290-8D3F-4946-9294-15350E2647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66"/>
                </a:solidFill>
                <a:latin typeface="Times New Roman"/>
              </a:rPr>
              <a:t>HUK  (Høyst uvanlig konvensjon ) II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Innmelding som etter åpning på entrinnet i ekte farge ikke viser minst 4 kort i en kjent farge;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990000"/>
                </a:solidFill>
                <a:latin typeface="Times New Roman"/>
              </a:rPr>
              <a:t>Unntak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rsom alle ikke-sterke varianter av en slik melding har en felles kjent farge på minst fire kort, kan den altså i tillegg fritt ha hvilke som helst sterke betydninge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kte grandmelding med eller uten hold </a:t>
            </a: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Melding på hånd som kan være svak og da viser to farger der den ene kan være på mindre enn 4 kor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Psykiske meldinger som er beskyttet eller krevd av systeme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Ingen forsvar mot sterke, konvensjonelle åpningsbud, HUK eller HUM er  HUK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68F9-EB5B-426A-8575-C6A62233FE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528C5-9A60-40F5-825B-977DC1EEC2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Gruppering av meldesystemer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676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Naturlige systemer    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Grønt Systemkor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Et system er Naturlig når det på entrinnet bruker ekte åpningsmeldinger som viser minst tre kort i minor og fire i major, har ekte svar på en og totrinnet og har </a:t>
            </a:r>
            <a:br>
              <a:rPr sz="1800"/>
            </a:b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1grandåpning som viser en balansert eller semibalansert hånd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Konvensjoner som Toronto og Stenberg er tillatt. </a:t>
            </a:r>
            <a:endParaRPr b="0" lang="en-US" sz="1400" spc="-1" strike="noStrike">
              <a:solidFill>
                <a:srgbClr val="99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Minorsystemer       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Blått systemkor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Et system er  Minorsystem når det baserer seg på 1 kløver eller 1 ruter eller begge som konvensjonelle åpningsmeldinger og åpningen 1 i major og åpningen 1 Grand , er som for naturlige system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unstige systemer  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Rødt systemkor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Et system er Kunstig når det ikke faller i kategoriene Naturlig eller Minor og ikke bruker meldinger som er definert som HUM eller HUK. </a:t>
            </a:r>
            <a:r>
              <a:rPr b="0" i="1" lang="nb-NO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Kategorien omfatter bl.a Vienna , relésystemer, systemer med tillatte flertydige åpningsmeldinger og systemer med poengsvar ).</a:t>
            </a: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HUM (Høyst Uvanlige Metoder) 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Gult systemkor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t system er HUM når det i oppsettet har prinsipper som er beskrevet under HUM eller HUK unntatt konvensjoner som er beskrevet i tillatte brune vedlegg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4D0-40A8-4FDF-8AA8-6E24DD5B0F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9A404-1E36-45F9-86BF-8BDBC023EF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illatte meldesystemer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Generelle regler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Arrangøren av en turnering bestemmer hvilke kategorier som er tillat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HUM kan bare tillates i lange lagkamper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990000"/>
                </a:solidFill>
                <a:latin typeface="Times New Roman"/>
              </a:rPr>
              <a:t>Lag med spillende par som bruker HUM systemer, er alltid bortelag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Når HUM systemer tillates, skal systembeskrivelse sendes inn til arrangøren - fortrinnsvis på fil - for distribusjon til andre deltakere i turneringen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Når HUK tillates, skal et forslag til forsvar beskrives sammen med konvensjonen i det brune vedlegge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Dersom det </a:t>
            </a:r>
            <a:r>
              <a:rPr b="1" i="1" lang="nb-NO" sz="2000" spc="-1" strike="noStrike">
                <a:solidFill>
                  <a:srgbClr val="990000"/>
                </a:solidFill>
                <a:latin typeface="Times New Roman"/>
              </a:rPr>
              <a:t>ikke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 i innbydelsen til turneringen er gjort særskilt vedtak, gjelder følgende: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Singelturneringer og andre "spesialturneringer"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990000"/>
                </a:solidFill>
                <a:latin typeface="Times New Roman"/>
              </a:rPr>
              <a:t>Arrangøren kan fastsette et system som er felles for alle spillerne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58F2-A6BB-40B2-9DED-EEB45ED1A7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10626-D4F7-4EA1-82D7-EC22C0A81A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illatte meldesystemer I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"Åpne" turneringer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 turneringer med generell innbydelse med klubbpoeng eller kretspoeng , SM damer 2. div, SM 4. og 5. divisjon gjelder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Grønne, blå og røde systemer er tillatt. HUM og HUK er forbudt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Forbundspoeng-turneringer etc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 turneringer med forbundspoeng, kretsmesterskap med kvalifisering til NM, NM finaler under Bridgefestivalen,  SM 3. divisjon og cup - rundene i NM for klubblag gjelder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Grønne, blå og røde systemer er tillatt. 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nntil 2 HUK er tillatt.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Toppturneringene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 finalen NM for klubblag, finalerundene NM for Lag,  SM 1 divisjon, SM 2 divisjon og SM damer 1 divisjon gjelder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lle kategorier er tillatt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4E17-6DE5-4A3F-833B-8BCC13B996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3458A-A652-4231-A16A-96DF725556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22:10:32Z</dcterms:created>
  <dc:creator>Per Nordland</dc:creator>
  <dc:description/>
  <dc:language>en-US</dc:language>
  <cp:lastModifiedBy>Per Nordland</cp:lastModifiedBy>
  <dcterms:modified xsi:type="dcterms:W3CDTF">2002-06-01T20:22:18Z</dcterms:modified>
  <cp:revision>9</cp:revision>
  <dc:subject/>
  <dc:title>Regler for tillatte meldesystemer</dc:title>
</cp:coreProperties>
</file>